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417-1432-44A0-9C0D-23BC84A0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539-9E6C-40FE-975B-10CCC27B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A3D-8492-4667-854D-7909718D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52-B462-419C-91B5-14834C42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1E6-6EC1-4082-9621-FC0D828C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2D00-A212-49E3-A02D-657F26B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F397-AAF1-45C0-A09B-E0667A05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B979-FD7F-4B60-9627-A2129E9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FEB9-F82A-4AED-8BC9-0A73F1E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6F67-B686-4723-994D-95DD1B1E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758-9AFF-44E2-BF55-0E6E0E8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918-33BE-4E39-A1CE-4703D7A2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9A73-53B8-4AA3-ACC6-5591C4A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001-14CF-423B-9ACF-B24B256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E32-1F1F-484B-9E71-DD088DD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619-72C2-4326-96DF-577390E7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F791-680D-4B43-A39F-AE453967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B50-82D0-4C4D-A5BB-9F861A00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A2B-B549-4C28-82B5-F7B400A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1F-C063-46CD-A2D5-B7B0C9FF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220-472F-4938-B9CF-38FDAD55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5A3-48C4-4A0F-84BA-B22C101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2CF-A8E1-4486-8ADE-6B39585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E80-E195-4BB2-BFF1-A968576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A649-B50A-44BE-AD76-4C54511996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5B4-31F5-4F33-B3DF-19C645F0A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7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de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de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delta &lt;&lt; 5;  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-= ((y &lt;&lt; 4) + k[2]) ^ (y + sum) ^ ((y &gt;&gt; 5) + k[3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-= ((z &lt;&lt; 4) + k[0]) ^ (z + sum) ^ ((z &gt;&gt; 5) + k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-= del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text[1] = z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in us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1800" y="1407960"/>
            <a:ext cx="846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tea(char mode, FILE *infile, FILE *outfile, unsigned long k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mode is ’e’ for encrypt, ’d’ for decrypt, k[] is the key.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ch, Text[8];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(!feof(infile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 = fread(Text, 1, 8, in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read 8 bytes from infile into Tex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f (i &lt;= 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hile (i &lt; 8) { Text[i++] = ' ';}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pad last block with spac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witch (mod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e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n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ase 'd'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ecrypt(k, (unsigned long*) Text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write(Text, 1, 8, outfile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* write 8 bytes from Text to outfi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4287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1200" y="1344600"/>
            <a:ext cx="8864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a key pa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hoose two large prime number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ach greater than 10100), and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= P x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 = (P–1) x (Q–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oose any number that is relatively prim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at is,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 common factor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e illustrate the computations involved using small integer values for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P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 Q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3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7 –&gt;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221,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19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lve the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 mo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element divisibl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se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, ..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e x d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=  1 mod 192   = 1, 193, 385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85 is divisible by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 = 385/5 = 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SA Encryption -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1200" y="1344600"/>
            <a:ext cx="88646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encrypt text using the RSA method, the plaintext is divided into equal blocks of leng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s where 2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at is, such that the numerical value of a block is always less th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in practical application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usually in the range 512 to 102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k = 7, since 27 = 12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encrypting a single block of plain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e,N,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for a message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the ciphertext is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GB" sz="1800" spc="-1" strike="noStrike" baseline="30000">
                <a:solidFill>
                  <a:srgbClr val="ff3300"/>
                </a:solidFill>
                <a:latin typeface="Times New Roman"/>
              </a:rPr>
              <a:t>77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mod 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function for decrypting a block of encrypted tex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produce the original plaintext block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d,N,c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vest, Shamir and Adelman prov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mutual invers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that is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'(D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'(E'(x)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for all values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the range 0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wo parameter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n be regarded as a key for the encryption function, and similarl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,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present a key for the decryption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we can write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 &lt;e,N&gt; and K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&lt;d,N&gt;, and we get the encryption func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(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M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he notation here indicating that the encrypted message can be decrypted only by the holder of the private key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=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gital signatures with public key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158920" y="1454040"/>
            <a:ext cx="5591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-cost signatures with a shared secret ke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273400" y="1432080"/>
            <a:ext cx="5418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509 Certificate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230480" y="2389320"/>
            <a:ext cx="7723080" cy="1911240"/>
            <a:chOff x="1230480" y="2389320"/>
            <a:chExt cx="7723080" cy="1911240"/>
          </a:xfrm>
        </p:grpSpPr>
        <p:sp>
          <p:nvSpPr>
            <p:cNvPr id="448" name=""/>
            <p:cNvSpPr/>
            <p:nvPr/>
          </p:nvSpPr>
          <p:spPr>
            <a:xfrm>
              <a:off x="129096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9896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10200" y="2444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76800" y="2444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j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73440" y="2444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2112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8168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41080" y="25560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2604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976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4448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5572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6192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4960" y="2556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16800" y="2556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3800" y="255600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24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43560" y="255600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09520" y="255600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70800" y="255600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4944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64640" y="2556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74360" y="25560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31040" y="25560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0520" y="255600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87720" y="2556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30480" y="238932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56320" y="238932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72160" y="238932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47760" y="292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9184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3808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1120" y="2924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8168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41080" y="2924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2604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89760" y="2924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4448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5572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6192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74960" y="2924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16800" y="29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23800" y="2924280"/>
              <a:ext cx="33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4924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43560" y="29242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09520" y="292428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70440" y="29242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0048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1280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19720" y="2924280"/>
              <a:ext cx="1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78120" y="2924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6120" y="2924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62080" y="29242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47040" y="3290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76000" y="3290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392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5520" y="329076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3536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984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5964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6080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28120" y="329076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8940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9704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607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2016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2112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7772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9076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00560" y="32907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4716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15920" y="3290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2788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9988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9924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06800" y="32907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028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63560" y="3290760"/>
              <a:ext cx="21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71280" y="32907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38400" y="3290760"/>
              <a:ext cx="12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5468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1128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89760" y="3290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47720" y="329076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5640" y="3290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221600" y="329076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72360" y="3290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26080" y="329076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89160" y="3659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2416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2928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9236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1108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6320" y="365904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s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4992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6224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0240" y="3659040"/>
              <a:ext cx="26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7724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3052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928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6012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25720" y="365904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82120" y="365904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4376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4996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112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3440" y="365904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98680" y="3659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236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0324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10520" y="365904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22120" y="3659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4272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4064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1336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7600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73920" y="3659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30080" y="36590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84800" y="3659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41400" y="3659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03320" y="3659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33440" y="365904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31360" y="3659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85560" y="40258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2100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6440" y="40258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8632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94680" y="4025880"/>
              <a:ext cx="10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9440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00960" y="402588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2912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3676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97600" y="402588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89840" y="4025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5004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5912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840" y="4025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8008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91320" y="4025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30480" y="4241880"/>
              <a:ext cx="352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56320" y="4241880"/>
              <a:ext cx="158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72160" y="4241880"/>
              <a:ext cx="4181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formance of encryption and secure digest algorith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031760" y="1606680"/>
            <a:ext cx="7866720" cy="4298400"/>
            <a:chOff x="1031760" y="1606680"/>
            <a:chExt cx="7866720" cy="4298400"/>
          </a:xfrm>
        </p:grpSpPr>
        <p:sp>
          <p:nvSpPr>
            <p:cNvPr id="592" name=""/>
            <p:cNvSpPr/>
            <p:nvPr/>
          </p:nvSpPr>
          <p:spPr>
            <a:xfrm>
              <a:off x="4064040" y="1755360"/>
              <a:ext cx="1736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Key size/hash siz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68840" y="2010960"/>
              <a:ext cx="509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(bit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9920" y="1755360"/>
              <a:ext cx="125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Extrapolat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35720" y="2010960"/>
              <a:ext cx="547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pe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85800" y="2266560"/>
              <a:ext cx="119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ec.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57400" y="1755360"/>
              <a:ext cx="144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RB optimiz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13720" y="2010960"/>
              <a:ext cx="922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(kbytes/s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31760" y="16066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9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14640" y="16066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1336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935680" y="16066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00880" y="16066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23200" y="16066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90880" y="1630080"/>
              <a:ext cx="2376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1336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00880" y="1630080"/>
              <a:ext cx="22320" cy="88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66680" y="26859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1804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05560" y="268596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94760" y="26859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31760" y="2576160"/>
              <a:ext cx="2836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14640" y="2576160"/>
              <a:ext cx="1974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1336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35680" y="2576160"/>
              <a:ext cx="144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00880" y="25761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23200" y="2576160"/>
              <a:ext cx="14652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90880" y="253512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1336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00880" y="253512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7040" y="31032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3960" y="310320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05560" y="31032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99480" y="31032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74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90880" y="295416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1336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00880" y="295416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66680" y="3522600"/>
              <a:ext cx="112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riple-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1804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05560" y="35208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99480" y="35208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84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90880" y="337176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1336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00880" y="337176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67040" y="393984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1804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05560" y="39398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99480" y="39398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46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90880" y="379080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1336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00880" y="379080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7400" y="43588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18040" y="435744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64720" y="43574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37400" y="435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4760" y="435744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90880" y="4208400"/>
              <a:ext cx="2376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1336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00880" y="4208400"/>
              <a:ext cx="22320" cy="41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67400" y="477648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02120" y="47764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4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67200" y="4776480"/>
              <a:ext cx="18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94760" y="47764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90880" y="4625640"/>
              <a:ext cx="2376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1336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00880" y="4625640"/>
              <a:ext cx="22320" cy="41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7400" y="5194080"/>
              <a:ext cx="50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MD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18040" y="51940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88200" y="5194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74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83920" y="51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6242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90880" y="50446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1336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00880" y="50446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400" y="56131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1804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05560" y="5611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83920" y="56116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516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31760" y="5879880"/>
              <a:ext cx="2836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90880" y="5462280"/>
              <a:ext cx="2376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90880" y="5903640"/>
              <a:ext cx="237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9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14640" y="5879880"/>
              <a:ext cx="197496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1336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1336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336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35680" y="5879880"/>
              <a:ext cx="1441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00880" y="5462280"/>
              <a:ext cx="2232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00880" y="590364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00880" y="5879880"/>
              <a:ext cx="18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23200" y="5879880"/>
              <a:ext cx="146520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Needham–Schroeder secret-key authentication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26640" y="169056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078280" y="1690560"/>
            <a:ext cx="8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46480" y="1690560"/>
            <a:ext cx="52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82720" y="1542960"/>
            <a:ext cx="10954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00160" y="156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0016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23920" y="1542960"/>
            <a:ext cx="20084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54320" y="15652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54320" y="1542960"/>
            <a:ext cx="18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76640" y="1542960"/>
            <a:ext cx="474660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00160" y="1565280"/>
            <a:ext cx="2376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54320" y="1565280"/>
            <a:ext cx="2232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760" y="2055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-&gt;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37600" y="2146320"/>
            <a:ext cx="745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, B, 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50080" y="2077920"/>
            <a:ext cx="441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quests S to supply a key for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49000" y="23288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82720" y="19987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00160" y="20224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00016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23920" y="19987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54320" y="202248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4320" y="19987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76640" y="19987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00160" y="2022480"/>
            <a:ext cx="2376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54320" y="2022480"/>
            <a:ext cx="2232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4760" y="27399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25800" y="2739960"/>
            <a:ext cx="1344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B, 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4040" y="3067200"/>
            <a:ext cx="1296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7320" y="2671920"/>
            <a:ext cx="44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returns a message encrypted in A’s 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6440" y="2922480"/>
            <a:ext cx="3979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ing a newly generated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86000" y="3173400"/>
            <a:ext cx="4644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cket’ encrypted in B’s secret key. The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25960" y="3424320"/>
            <a:ext cx="47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nstrates that the message was sent in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7560" y="3675240"/>
            <a:ext cx="430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preceding one. A believes that S sen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34600" y="3925800"/>
            <a:ext cx="428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because only S knows A’s secret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421840" y="392580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00160" y="2614680"/>
            <a:ext cx="2376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54320" y="2614680"/>
            <a:ext cx="22320" cy="15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433692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39280" y="4268880"/>
            <a:ext cx="229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the ‘ticket’ to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54320" y="4211640"/>
            <a:ext cx="223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474660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B-&gt;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93200" y="4678200"/>
            <a:ext cx="450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decrypts the ticket and uses the new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90320" y="4929120"/>
            <a:ext cx="2387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 another no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000160" y="4621320"/>
            <a:ext cx="2376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54320" y="4621320"/>
            <a:ext cx="223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5340240"/>
            <a:ext cx="81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A-&gt;B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29560" y="5272200"/>
            <a:ext cx="446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emonstrates to B that it was the sender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07600" y="552276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ious message by returning an ag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91400" y="5773680"/>
            <a:ext cx="194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orm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82720" y="6059520"/>
            <a:ext cx="109548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00160" y="5214960"/>
            <a:ext cx="2376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00160" y="60818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0016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23920" y="6059520"/>
            <a:ext cx="20084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054320" y="5214960"/>
            <a:ext cx="2232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054320" y="60818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54320" y="6059520"/>
            <a:ext cx="18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76640" y="6059520"/>
            <a:ext cx="4746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53800" y="4313160"/>
            <a:ext cx="9882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7480" y="4729320"/>
            <a:ext cx="732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92320" y="5308560"/>
            <a:ext cx="10382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7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ystem architecture of Kerbero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-299880" y="807120"/>
            <a:ext cx="9478800" cy="5737680"/>
            <a:chOff x="-299880" y="807120"/>
            <a:chExt cx="9478800" cy="5737680"/>
          </a:xfrm>
        </p:grpSpPr>
        <p:sp>
          <p:nvSpPr>
            <p:cNvPr id="747" name=""/>
            <p:cNvSpPr/>
            <p:nvPr/>
          </p:nvSpPr>
          <p:spPr>
            <a:xfrm>
              <a:off x="128736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87360" y="3652920"/>
              <a:ext cx="193536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614440" y="473544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53840" y="468936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50800" y="3862440"/>
              <a:ext cx="16322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39880" y="5086440"/>
              <a:ext cx="108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o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05640" y="3652920"/>
              <a:ext cx="1913040" cy="2471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05640" y="3652920"/>
              <a:ext cx="1936800" cy="249552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21560" y="3862440"/>
              <a:ext cx="1657440" cy="205272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76440" y="1670040"/>
              <a:ext cx="4805280" cy="1701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76440" y="1670040"/>
              <a:ext cx="4829400" cy="1725480"/>
            </a:xfrm>
            <a:prstGeom prst="rect">
              <a:avLst/>
            </a:prstGeom>
            <a:noFill/>
            <a:ln w="237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79560" y="1809720"/>
              <a:ext cx="4175280" cy="142236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27920" y="189072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thentic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38160" y="2052720"/>
              <a:ext cx="79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74240" y="4059360"/>
              <a:ext cx="47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44120" y="426888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36560" y="4468680"/>
              <a:ext cx="111924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1280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33640" y="4468680"/>
              <a:ext cx="2095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52680" y="4468680"/>
              <a:ext cx="2113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41160" y="215100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cket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4720" y="23144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a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23800" y="250020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81480" y="1419120"/>
              <a:ext cx="2853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Kerberos  Key Distribution Cent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90840" y="4959360"/>
              <a:ext cx="121284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16280" y="4959360"/>
              <a:ext cx="210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36760" y="495936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50120" y="45496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44120" y="4735440"/>
              <a:ext cx="11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ssion set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56640" y="22273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uth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02360" y="23907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09840" y="255420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1520" y="240336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5680" y="2637000"/>
              <a:ext cx="89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GS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1940040" y="2789280"/>
              <a:ext cx="396720" cy="3031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90520" y="2986200"/>
              <a:ext cx="657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.  TG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58360" y="317340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26280" y="3686040"/>
              <a:ext cx="12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.  Request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77560" y="3895560"/>
              <a:ext cx="103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78160" y="415296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. Server tick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4840" y="4362480"/>
              <a:ext cx="16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89000" y="43164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1880" y="436248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25200" y="45021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81160" y="4549680"/>
              <a:ext cx="64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159520" y="4514400"/>
              <a:ext cx="233280" cy="2113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4480" y="4961160"/>
              <a:ext cx="37152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6" y="6228"/>
                  </a:moveTo>
                  <a:arcTo wR="10800" hR="10800" stAng="-9297228" swAng="2394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6" y="6228"/>
                  </a:moveTo>
                  <a:arcTo wR="10800" hR="10800" stAng="-9297228" swAng="239445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26720" y="4795920"/>
              <a:ext cx="42699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4"/>
                  </a:moveTo>
                  <a:arcTo wR="10800" hR="10800" stAng="-10007958" swAng="8857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4"/>
                  </a:moveTo>
                  <a:arcTo wR="10800" hR="10800" stAng="-10007958" swAng="8857321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0800" y="4982760"/>
              <a:ext cx="394920" cy="3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10" y="16755"/>
                  </a:moveTo>
                  <a:arcTo wR="10800" hR="10800" stAng="2007931" swAng="2436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10" y="16755"/>
                  </a:moveTo>
                  <a:arcTo wR="10800" hR="10800" stAng="2007931" swAng="2436480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20320" y="4817880"/>
              <a:ext cx="4246200" cy="77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9" y="12273"/>
                  </a:moveTo>
                  <a:arcTo wR="10800" hR="10800" stAng="470345" swAng="9440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9" y="12273"/>
                  </a:moveTo>
                  <a:arcTo wR="10800" hR="10800" stAng="470345" swAng="944016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506760" y="4923000"/>
              <a:ext cx="305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quest encrypted with session ke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46440" y="5295960"/>
              <a:ext cx="294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ply encrypted with session key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1560" y="4651200"/>
              <a:ext cx="63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14760" y="483876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49160" y="4960080"/>
              <a:ext cx="30348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25" y="15058"/>
                  </a:moveTo>
                  <a:arcTo wR="10800" hR="10800" stAng="1393285" swAng="2655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25" y="15058"/>
                  </a:moveTo>
                  <a:arcTo wR="10800" hR="10800" stAng="1393285" swAng="2655406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42040" y="4468680"/>
              <a:ext cx="81576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873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39480" y="2542680"/>
              <a:ext cx="30312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883120" y="2060640"/>
              <a:ext cx="868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28" swAng="189050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28" swAng="1890502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77720" y="2580840"/>
              <a:ext cx="30240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2" y="14970"/>
                  </a:moveTo>
                  <a:arcTo wR="10800" hR="10800" stAng="1362864" swAng="267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2" y="14970"/>
                  </a:moveTo>
                  <a:arcTo wR="10800" hR="10800" stAng="1362864" swAng="2674271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92560" y="2112840"/>
              <a:ext cx="793440" cy="8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7002" swAng="1889818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7002" swAng="1889818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67120" y="2394000"/>
              <a:ext cx="37404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7" y="15704"/>
                  </a:moveTo>
                  <a:arcTo wR="10800" hR="10800" stAng="9179754" swAng="23561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7" y="15704"/>
                  </a:moveTo>
                  <a:arcTo wR="10800" hR="10800" stAng="9179754" swAng="2356133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74760" y="2580480"/>
              <a:ext cx="1981080" cy="27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7"/>
                  </a:moveTo>
                  <a:arcTo wR="10800" hR="10800" stAng="-10796003" swAng="49148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7"/>
                  </a:moveTo>
                  <a:arcTo wR="10800" hR="10800" stAng="-10796003" swAng="4914899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72960" y="3793320"/>
              <a:ext cx="37476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6" y="6063"/>
                  </a:moveTo>
                  <a:arcTo wR="10800" hR="10800" stAng="-1560956" swAng="24089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6" y="6063"/>
                  </a:moveTo>
                  <a:arcTo wR="10800" hR="10800" stAng="-1560956" swAng="2408905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96880" y="1483560"/>
              <a:ext cx="1726920" cy="25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6"/>
                  </a:moveTo>
                  <a:arcTo wR="10800" hR="10800" stAng="-4344" swAng="481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6"/>
                  </a:moveTo>
                  <a:arcTo wR="10800" hR="10800" stAng="-4344" swAng="4811110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640240" y="4514400"/>
              <a:ext cx="374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97" y="6967"/>
                  </a:moveTo>
                  <a:arcTo wR="10800" hR="10800" stAng="-1247294" swAng="2438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97" y="6967"/>
                  </a:moveTo>
                  <a:arcTo wR="10800" hR="10800" stAng="-1247294" swAng="2438607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-299880" y="807120"/>
              <a:ext cx="6206760" cy="38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82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82008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72160" y="2462400"/>
              <a:ext cx="396360" cy="37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2" y="14327"/>
                  </a:moveTo>
                  <a:arcTo wR="10800" hR="10800" stAng="9656344" swAng="2342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592" y="14327"/>
                  </a:moveTo>
                  <a:arcTo wR="10800" hR="10800" stAng="9656344" swAng="2342844"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25640" y="2649960"/>
              <a:ext cx="6089400" cy="38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81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81655"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1846080" y="3116160"/>
              <a:ext cx="1143000" cy="349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552920" y="4211640"/>
              <a:ext cx="2095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89680" y="4748040"/>
              <a:ext cx="115560" cy="117720"/>
            </a:xfrm>
            <a:custGeom>
              <a:avLst/>
              <a:gdLst>
                <a:gd name="textAreaLeft" fmla="*/ 13680 w 115560"/>
                <a:gd name="textAreaRight" fmla="*/ 101880 w 115560"/>
                <a:gd name="textAreaTop" fmla="*/ 13680 h 117720"/>
                <a:gd name="textAreaBottom" fmla="*/ 104040 h 117720"/>
              </a:gdLst>
              <a:ahLst/>
              <a:rect l="textAreaLeft" t="textAreaTop" r="textAreaRight" b="textAreaBottom"/>
              <a:pathLst>
                <a:path w="21600" h="22002">
                  <a:moveTo>
                    <a:pt x="8729" y="0"/>
                  </a:moveTo>
                  <a:arcTo wR="8729" hR="8729" stAng="16200000" swAng="-5400000"/>
                  <a:lnTo>
                    <a:pt x="0" y="13273"/>
                  </a:lnTo>
                  <a:arcTo wR="8729" hR="8729" stAng="10800000" swAng="-5400000"/>
                  <a:lnTo>
                    <a:pt x="12871" y="22002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62440" y="416556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0400" y="3745080"/>
              <a:ext cx="37296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06800" y="3699000"/>
              <a:ext cx="115920" cy="117360"/>
            </a:xfrm>
            <a:custGeom>
              <a:avLst/>
              <a:gdLst>
                <a:gd name="textAreaLeft" fmla="*/ 13680 w 115920"/>
                <a:gd name="textAreaRight" fmla="*/ 102240 w 115920"/>
                <a:gd name="textAreaTop" fmla="*/ 13680 h 117360"/>
                <a:gd name="textAreaBottom" fmla="*/ 103680 h 117360"/>
              </a:gdLst>
              <a:ahLst/>
              <a:rect l="textAreaLeft" t="textAreaTop" r="textAreaRight" b="textAreaBottom"/>
              <a:pathLst>
                <a:path w="21600" h="21867">
                  <a:moveTo>
                    <a:pt x="8729" y="0"/>
                  </a:moveTo>
                  <a:arcTo wR="8729" hR="8729" stAng="16200000" swAng="-5400000"/>
                  <a:lnTo>
                    <a:pt x="0" y="13138"/>
                  </a:lnTo>
                  <a:arcTo wR="8729" hR="8729" stAng="10800000" swAng="-5400000"/>
                  <a:lnTo>
                    <a:pt x="12871" y="21867"/>
                  </a:lnTo>
                  <a:arcTo wR="8729" hR="8729" stAng="5400000" swAng="-5400000"/>
                  <a:lnTo>
                    <a:pt x="21600" y="8729"/>
                  </a:lnTo>
                  <a:arcTo wR="8729" hR="8729" stAng="0" swAng="-5400000"/>
                  <a:close/>
                </a:path>
              </a:pathLst>
            </a:cu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13000" y="3046320"/>
              <a:ext cx="117360" cy="11592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89440" y="3419640"/>
              <a:ext cx="117360" cy="115560"/>
            </a:xfrm>
            <a:prstGeom prst="roundRect">
              <a:avLst>
                <a:gd name="adj" fmla="val 40412"/>
              </a:avLst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26280" y="345276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67480" y="2124000"/>
              <a:ext cx="57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34920" y="410688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ep 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23760" y="48988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862840" y="4946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97080" y="5419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92400" y="5607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istorical context: the evolution of security nee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20960" y="1612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7920" y="161280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53080" y="161280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18240" y="1612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19987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87920" y="19987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19987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18240" y="19987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20960" y="519264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7920" y="51926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53080" y="519264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18240" y="519264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05400" y="47973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040" y="5011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2200" y="1893960"/>
            <a:ext cx="8771040" cy="3605040"/>
            <a:chOff x="592200" y="1893960"/>
            <a:chExt cx="8771040" cy="3605040"/>
          </a:xfrm>
        </p:grpSpPr>
        <p:sp>
          <p:nvSpPr>
            <p:cNvPr id="103" name=""/>
            <p:cNvSpPr/>
            <p:nvPr/>
          </p:nvSpPr>
          <p:spPr>
            <a:xfrm>
              <a:off x="1951560" y="1998720"/>
              <a:ext cx="68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965-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16720" y="2000160"/>
              <a:ext cx="68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975-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83680" y="2000160"/>
              <a:ext cx="68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990-9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9920" y="200016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2200" y="1893960"/>
              <a:ext cx="13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20960" y="1893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3280" y="1893960"/>
              <a:ext cx="18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87920" y="1893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8440" y="1893960"/>
              <a:ext cx="18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53080" y="1893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73600" y="1893960"/>
              <a:ext cx="1824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18240" y="189396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0560" y="1893960"/>
              <a:ext cx="18226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0960" y="1914480"/>
              <a:ext cx="223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7920" y="1914480"/>
              <a:ext cx="205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53080" y="1914480"/>
              <a:ext cx="205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8240" y="1914480"/>
              <a:ext cx="223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240" y="241776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lat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54800" y="241776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ulti-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4800" y="263196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53720" y="284652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20680" y="2417760"/>
              <a:ext cx="160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ed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18520" y="2631960"/>
              <a:ext cx="116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d on 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7800" y="284652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360" y="2417760"/>
              <a:ext cx="1559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Internet, wid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8000" y="2631960"/>
              <a:ext cx="104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ea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54240" y="2417760"/>
              <a:ext cx="177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Internet + mo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0640" y="2631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2200" y="2279520"/>
              <a:ext cx="1307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0960" y="227952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43280" y="2279520"/>
              <a:ext cx="18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7920" y="227952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440" y="2279520"/>
              <a:ext cx="18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53080" y="227952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73600" y="2279520"/>
              <a:ext cx="1824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8240" y="227952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0560" y="2279520"/>
              <a:ext cx="18226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0960" y="2300400"/>
              <a:ext cx="223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7920" y="2300400"/>
              <a:ext cx="205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53080" y="2300400"/>
              <a:ext cx="205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8240" y="2300400"/>
              <a:ext cx="223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3160" y="320976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h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880" y="342432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6240" y="3209760"/>
              <a:ext cx="11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, fi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1760" y="3209760"/>
              <a:ext cx="157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services (e.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9960" y="3424320"/>
              <a:ext cx="173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FS), local 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8720" y="3209760"/>
              <a:ext cx="138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ail, web sit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9800" y="3424320"/>
              <a:ext cx="152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et comme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52800" y="3209760"/>
              <a:ext cx="159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ed object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1360" y="342432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bile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960" y="3094200"/>
              <a:ext cx="22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7920" y="3094200"/>
              <a:ext cx="205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53080" y="3094200"/>
              <a:ext cx="205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18240" y="3094200"/>
              <a:ext cx="22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600" y="378936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4240" y="4003560"/>
              <a:ext cx="107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5880" y="3789360"/>
              <a:ext cx="1861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r identification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54080" y="400356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hent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2000" y="400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4840" y="400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21400" y="3789360"/>
              <a:ext cx="175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tection of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7640" y="3789360"/>
              <a:ext cx="152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ong security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8360" y="400356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er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200" y="4218120"/>
              <a:ext cx="97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52800" y="3789360"/>
              <a:ext cx="148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control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1720" y="4003560"/>
              <a:ext cx="150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object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3160" y="4218120"/>
              <a:ext cx="156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cure mobile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20960" y="3672000"/>
              <a:ext cx="223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87920" y="3672000"/>
              <a:ext cx="205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53080" y="3672000"/>
              <a:ext cx="205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3672000"/>
              <a:ext cx="22320" cy="79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600" y="458316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160" y="479736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880" y="5011560"/>
              <a:ext cx="101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54440" y="458316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 authority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54800" y="4797360"/>
              <a:ext cx="160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ngle author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6600" y="5011560"/>
              <a:ext cx="150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base (e.g. /etc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52640" y="522612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assw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19600" y="458316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 authority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21040" y="4797360"/>
              <a:ext cx="138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elegation, repli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0320" y="501156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ated author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1400" y="5226120"/>
              <a:ext cx="163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bases (e.g. N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87280" y="458316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y authoriti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85120" y="4797360"/>
              <a:ext cx="138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 network-w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86560" y="501156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hor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52800" y="4583160"/>
              <a:ext cx="94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-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7973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horities, grou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1000" y="5011560"/>
              <a:ext cx="94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sh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2440" y="52261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ponsib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200" y="5497560"/>
              <a:ext cx="1307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20960" y="4465800"/>
              <a:ext cx="22320" cy="10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20960" y="54975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3280" y="5497560"/>
              <a:ext cx="18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7920" y="4465800"/>
              <a:ext cx="20520" cy="10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87920" y="54975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8440" y="5497560"/>
              <a:ext cx="18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3080" y="4465800"/>
              <a:ext cx="20520" cy="10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53080" y="54975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73600" y="5497560"/>
              <a:ext cx="1824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18240" y="4465800"/>
              <a:ext cx="22320" cy="100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8240" y="549756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0560" y="5497560"/>
              <a:ext cx="18226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protocol sta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290600" y="1817640"/>
            <a:ext cx="7431120" cy="3668040"/>
            <a:chOff x="1290600" y="1817640"/>
            <a:chExt cx="7431120" cy="3668040"/>
          </a:xfrm>
        </p:grpSpPr>
        <p:sp>
          <p:nvSpPr>
            <p:cNvPr id="832" name=""/>
            <p:cNvSpPr/>
            <p:nvPr/>
          </p:nvSpPr>
          <p:spPr>
            <a:xfrm>
              <a:off x="667368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673680" y="1817640"/>
              <a:ext cx="87804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08520" y="1817640"/>
              <a:ext cx="847800" cy="907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08520" y="1817640"/>
              <a:ext cx="876600" cy="936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45120" y="1817640"/>
              <a:ext cx="134604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45120" y="1817640"/>
              <a:ext cx="137448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54360" y="1817640"/>
              <a:ext cx="13446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75436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600" y="351468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90600" y="351468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90600" y="4216320"/>
              <a:ext cx="7400880" cy="5558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90600" y="4216320"/>
              <a:ext cx="7431120" cy="58572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90600" y="2871720"/>
              <a:ext cx="7400880" cy="525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90600" y="2871720"/>
              <a:ext cx="7431120" cy="55584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90600" y="1817640"/>
              <a:ext cx="1346400" cy="907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290600" y="1817640"/>
              <a:ext cx="1374840" cy="9367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64000" y="1866960"/>
              <a:ext cx="45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07600" y="216072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andshak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46200" y="2452680"/>
              <a:ext cx="85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64160" y="206676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Chang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69560" y="2328840"/>
              <a:ext cx="1326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ipher Spe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442760" y="2066760"/>
              <a:ext cx="1017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Aler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50320" y="2328840"/>
              <a:ext cx="88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07720" y="3733920"/>
              <a:ext cx="315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port layer (usually TC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21840" y="4406760"/>
              <a:ext cx="2746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layer (usually I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56320" y="3032280"/>
              <a:ext cx="225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Record Protoco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80240" y="22129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29200" y="221292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05000" y="5094360"/>
              <a:ext cx="379440" cy="350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0500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516320" y="5195880"/>
              <a:ext cx="1567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SL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04120" y="5094360"/>
              <a:ext cx="380880" cy="350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04120" y="5094360"/>
              <a:ext cx="409680" cy="38088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615280" y="5195880"/>
              <a:ext cx="1716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Other protocol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08760" y="235260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963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83520" y="235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handshake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582560" y="1461960"/>
            <a:ext cx="71596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handshake configuration op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30680" y="18842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207120" y="188424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30680" y="2273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207120" y="227340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30680" y="55753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207120" y="557532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71920" y="217656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321600" y="21765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71920" y="2622600"/>
            <a:ext cx="27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21600" y="26226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671920" y="4775040"/>
            <a:ext cx="27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21600" y="477504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76440" y="2151000"/>
            <a:ext cx="8584920" cy="2641320"/>
            <a:chOff x="676440" y="2151000"/>
            <a:chExt cx="8584920" cy="2641320"/>
          </a:xfrm>
        </p:grpSpPr>
        <p:sp>
          <p:nvSpPr>
            <p:cNvPr id="885" name=""/>
            <p:cNvSpPr/>
            <p:nvPr/>
          </p:nvSpPr>
          <p:spPr>
            <a:xfrm>
              <a:off x="781920" y="2319480"/>
              <a:ext cx="1235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47520" y="2319480"/>
              <a:ext cx="1263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16640" y="2319480"/>
              <a:ext cx="93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6440" y="21510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7192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98920" y="21510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21600" y="2151000"/>
              <a:ext cx="1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46800" y="21510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71920" y="2176560"/>
              <a:ext cx="270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21600" y="217656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1960" y="2765520"/>
              <a:ext cx="1524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Key exch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0680" y="3054240"/>
              <a:ext cx="80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36720" y="2765520"/>
              <a:ext cx="2730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method to be used f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37080" y="3054240"/>
              <a:ext cx="2782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xchange of a session 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17360" y="2765520"/>
              <a:ext cx="227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RSA with public-ke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9640" y="3054240"/>
              <a:ext cx="1174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ertificat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6440" y="2647800"/>
              <a:ext cx="1969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98920" y="2647800"/>
              <a:ext cx="35956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46800" y="2647800"/>
              <a:ext cx="291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71920" y="2622600"/>
              <a:ext cx="270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21600" y="2622600"/>
              <a:ext cx="25200" cy="7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6280" y="3475080"/>
              <a:ext cx="162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Cipher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4560" y="3763800"/>
              <a:ext cx="81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47520" y="3475080"/>
              <a:ext cx="3391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the block or stream cipher to b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7720" y="3763800"/>
              <a:ext cx="138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used for dat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09440" y="3475080"/>
              <a:ext cx="63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71920" y="3332160"/>
              <a:ext cx="270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21600" y="3332160"/>
              <a:ext cx="252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48080" y="4183200"/>
              <a:ext cx="164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Message diges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8240" y="4471920"/>
              <a:ext cx="893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32400" y="4183200"/>
              <a:ext cx="221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for creating messa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06120" y="4471920"/>
              <a:ext cx="3152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Times New Roman"/>
                </a:rPr>
                <a:t>authentication codes (MACs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21680" y="4183200"/>
              <a:ext cx="53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SH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6440" y="4773600"/>
              <a:ext cx="1969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671920" y="4040280"/>
              <a:ext cx="270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7192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698920" y="4773600"/>
              <a:ext cx="3595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21600" y="4040280"/>
              <a:ext cx="2520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21600" y="4773600"/>
              <a:ext cx="1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346800" y="4773600"/>
              <a:ext cx="291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SL record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868400" y="1414440"/>
            <a:ext cx="6338880" cy="4776840"/>
            <a:chOff x="1868400" y="1414440"/>
            <a:chExt cx="6338880" cy="4776840"/>
          </a:xfrm>
        </p:grpSpPr>
        <p:sp>
          <p:nvSpPr>
            <p:cNvPr id="927" name=""/>
            <p:cNvSpPr/>
            <p:nvPr/>
          </p:nvSpPr>
          <p:spPr>
            <a:xfrm>
              <a:off x="1882800" y="1500120"/>
              <a:ext cx="178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62480" y="1414440"/>
              <a:ext cx="2451240" cy="345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66360" y="1487520"/>
              <a:ext cx="88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def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96584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33320" y="235440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7868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3880" y="2354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65960" y="2305080"/>
              <a:ext cx="841320" cy="347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1880" y="2354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g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13440" y="3220920"/>
              <a:ext cx="520560" cy="247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13440" y="3220920"/>
              <a:ext cx="544320" cy="2732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68400" y="2390760"/>
              <a:ext cx="23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rd protocol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74520" y="3257640"/>
              <a:ext cx="199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ressed 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30920" y="4087800"/>
              <a:ext cx="471600" cy="247680"/>
            </a:xfrm>
            <a:custGeom>
              <a:avLst/>
              <a:gdLst/>
              <a:ahLst/>
              <a:rect l="l" t="t" r="r" b="b"/>
              <a:pathLst>
                <a:path w="297" h="156">
                  <a:moveTo>
                    <a:pt x="0" y="156"/>
                  </a:moveTo>
                  <a:lnTo>
                    <a:pt x="156" y="0"/>
                  </a:lnTo>
                  <a:lnTo>
                    <a:pt x="297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93960" y="412416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2160" y="5014800"/>
              <a:ext cx="111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90720" y="5881680"/>
              <a:ext cx="124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 pa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37280" y="4954680"/>
              <a:ext cx="520560" cy="247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37280" y="4954680"/>
              <a:ext cx="544320" cy="271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05440" y="4954680"/>
              <a:ext cx="446040" cy="22212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0" y="140"/>
                  </a:moveTo>
                  <a:lnTo>
                    <a:pt x="140" y="0"/>
                  </a:lnTo>
                  <a:lnTo>
                    <a:pt x="281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13440" y="4879800"/>
              <a:ext cx="1411200" cy="446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13440" y="5770440"/>
              <a:ext cx="138564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13440" y="5770440"/>
              <a:ext cx="1411200" cy="4208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2464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3960" y="1736640"/>
              <a:ext cx="1440" cy="420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639200" y="218124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15" y="32"/>
                  </a:moveTo>
                  <a:lnTo>
                    <a:pt x="31" y="0"/>
                  </a:lnTo>
                  <a:lnTo>
                    <a:pt x="62" y="63"/>
                  </a:lnTo>
                  <a:lnTo>
                    <a:pt x="0" y="63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73960" y="1736640"/>
              <a:ext cx="1089000" cy="4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10080" y="215748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47" y="31"/>
                  </a:moveTo>
                  <a:lnTo>
                    <a:pt x="63" y="62"/>
                  </a:lnTo>
                  <a:lnTo>
                    <a:pt x="0" y="62"/>
                  </a:lnTo>
                  <a:lnTo>
                    <a:pt x="31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5484600" y="1736640"/>
              <a:ext cx="1089000" cy="470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53920" y="1920960"/>
              <a:ext cx="190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ragment/comb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79840" y="2836800"/>
              <a:ext cx="104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86240" y="3097080"/>
              <a:ext cx="100080" cy="748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31" y="0"/>
                  </a:moveTo>
                  <a:lnTo>
                    <a:pt x="63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335560" y="2652840"/>
              <a:ext cx="1440" cy="420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11800" y="47563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61120" y="3494160"/>
              <a:ext cx="1440" cy="1236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30920" y="411336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32" y="15"/>
                  </a:moveTo>
                  <a:lnTo>
                    <a:pt x="47" y="0"/>
                  </a:lnTo>
                  <a:lnTo>
                    <a:pt x="63" y="62"/>
                  </a:lnTo>
                  <a:lnTo>
                    <a:pt x="0" y="3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386320" y="3468600"/>
              <a:ext cx="469800" cy="644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85960" y="38019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a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76600" y="451944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81280" y="5410080"/>
              <a:ext cx="88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29280" y="47815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78600" y="4335480"/>
              <a:ext cx="1440" cy="446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757840" y="564660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0"/>
                  </a:moveTo>
                  <a:lnTo>
                    <a:pt x="62" y="0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807160" y="5326200"/>
              <a:ext cx="1440" cy="2966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illicent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266840" y="1436760"/>
            <a:ext cx="7529400" cy="349560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1376280" y="5667480"/>
            <a:ext cx="80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214000" y="56754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35332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6744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68520" y="5675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75960" y="567540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63960" y="56754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3128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77000" y="5675400"/>
            <a:ext cx="24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403080" y="5675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58680" y="5675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1204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28320" y="5675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28400" y="56754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97600" y="56754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24680" y="5675400"/>
            <a:ext cx="31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r 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68480" y="5675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40360" y="567540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28516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9964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446800" y="56754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512320" y="567540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7756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78700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56120" y="56754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79400" y="56754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272280" y="567540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1392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83400" y="56754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5692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903000" y="567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21080" y="5675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42000" y="5675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46760" y="56754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878960" y="5675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93656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981920" y="5675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39880" y="56754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78400" y="5675400"/>
            <a:ext cx="22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253360" y="56754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8916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28916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01760" y="5518080"/>
            <a:ext cx="8557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5748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170080" y="5518080"/>
            <a:ext cx="5936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763720" y="551808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74880" y="5518080"/>
            <a:ext cx="8287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603600" y="551808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614760" y="5518080"/>
            <a:ext cx="1371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8636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998960" y="5518080"/>
            <a:ext cx="1123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122880" y="551808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35840" y="5518080"/>
            <a:ext cx="1144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8028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8028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48512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485120" y="551808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497720" y="5518080"/>
            <a:ext cx="1066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564400" y="551808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564400" y="551808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289160" y="5530680"/>
            <a:ext cx="1260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28916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8916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01760" y="6040440"/>
            <a:ext cx="8557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57480" y="5530680"/>
            <a:ext cx="1260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15748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70080" y="6040440"/>
            <a:ext cx="5936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63720" y="5530680"/>
            <a:ext cx="1116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763720" y="604044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74880" y="6040440"/>
            <a:ext cx="8287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603600" y="5530680"/>
            <a:ext cx="1116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03600" y="604044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14760" y="6040440"/>
            <a:ext cx="1371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86360" y="5530680"/>
            <a:ext cx="1260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8636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98960" y="6040440"/>
            <a:ext cx="1123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22880" y="5530680"/>
            <a:ext cx="1296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22880" y="604044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35840" y="6040440"/>
            <a:ext cx="1144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80280" y="5530680"/>
            <a:ext cx="1260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8028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8028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485120" y="5530680"/>
            <a:ext cx="1260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8512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485120" y="604044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497720" y="6040440"/>
            <a:ext cx="1066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564400" y="5530680"/>
            <a:ext cx="12960" cy="50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564400" y="604044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564400" y="604044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0680" y="51022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crip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amiliar names for the protagonists in security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144880" y="2270160"/>
            <a:ext cx="5778000" cy="2584440"/>
            <a:chOff x="2144880" y="2270160"/>
            <a:chExt cx="5778000" cy="2584440"/>
          </a:xfrm>
        </p:grpSpPr>
        <p:sp>
          <p:nvSpPr>
            <p:cNvPr id="207" name=""/>
            <p:cNvSpPr/>
            <p:nvPr/>
          </p:nvSpPr>
          <p:spPr>
            <a:xfrm>
              <a:off x="2176920" y="2414520"/>
              <a:ext cx="49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56560" y="2414520"/>
              <a:ext cx="145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rst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4880" y="2270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25600" y="2270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25600" y="22924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640" y="277488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56200" y="2774880"/>
              <a:ext cx="171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ond particip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25600" y="26528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6920" y="313524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52960" y="3135240"/>
              <a:ext cx="410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three- and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25600" y="301320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77280" y="34956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54760" y="3495600"/>
              <a:ext cx="3126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icipant in four-party 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25600" y="337356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6920" y="385596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57640" y="3855960"/>
              <a:ext cx="125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vesdro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5600" y="373392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6920" y="4216320"/>
              <a:ext cx="73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l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6200" y="4216320"/>
              <a:ext cx="170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licious attac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25600" y="409428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7280" y="4576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58360" y="4576680"/>
              <a:ext cx="78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44880" y="4853160"/>
              <a:ext cx="10587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25600" y="4454640"/>
              <a:ext cx="237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25600" y="4853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249720" y="2270160"/>
              <a:ext cx="4673160" cy="2584440"/>
              <a:chOff x="3249720" y="2270160"/>
              <a:chExt cx="4673160" cy="2584440"/>
            </a:xfrm>
          </p:grpSpPr>
          <p:sp>
            <p:nvSpPr>
              <p:cNvPr id="233" name=""/>
              <p:cNvSpPr/>
              <p:nvPr/>
            </p:nvSpPr>
            <p:spPr>
              <a:xfrm>
                <a:off x="3249720" y="2270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49720" y="4853160"/>
                <a:ext cx="4673160" cy="1440"/>
              </a:xfrm>
              <a:prstGeom prst="line">
                <a:avLst/>
              </a:prstGeom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yptography not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10080" y="2308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10080" y="40006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0360" y="2374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76440" y="2354400"/>
            <a:ext cx="6521400" cy="2570040"/>
            <a:chOff x="1576440" y="2354400"/>
            <a:chExt cx="6521400" cy="2570040"/>
          </a:xfrm>
        </p:grpSpPr>
        <p:sp>
          <p:nvSpPr>
            <p:cNvPr id="240" name=""/>
            <p:cNvSpPr/>
            <p:nvPr/>
          </p:nvSpPr>
          <p:spPr>
            <a:xfrm>
              <a:off x="1614240" y="24940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2040" y="2494080"/>
              <a:ext cx="164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6440" y="235440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82880" y="235440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82880" y="237492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14240" y="2843280"/>
              <a:ext cx="233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2760" y="2843280"/>
              <a:ext cx="152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’s secret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82880" y="272412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0720" y="3191040"/>
              <a:ext cx="314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09160" y="3191040"/>
              <a:ext cx="382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 shared between Alice and 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2880" y="307188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29720" y="3538440"/>
              <a:ext cx="448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09160" y="3538440"/>
              <a:ext cx="383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rivate key (known only to Alic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2880" y="3419640"/>
              <a:ext cx="2232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7920" y="388764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Ap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06640" y="3887640"/>
              <a:ext cx="492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lice’s public key (published by Alice for all to 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82880" y="3767040"/>
              <a:ext cx="2232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77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9524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92160" y="4235400"/>
              <a:ext cx="11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5760" y="4235400"/>
              <a:ext cx="8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14200" y="423540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44720" y="42354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13200" y="423540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ed with ke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79800" y="42354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82880" y="411624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7760" y="4583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747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76320" y="4583160"/>
              <a:ext cx="173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14200" y="4583160"/>
              <a:ext cx="85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57320" y="45831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14280" y="45831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gned with 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01800" y="4583160"/>
              <a:ext cx="21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76440" y="4900680"/>
              <a:ext cx="1284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82880" y="4464000"/>
              <a:ext cx="2232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82880" y="4923000"/>
              <a:ext cx="223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2880" y="490068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905200" y="2354400"/>
              <a:ext cx="5192640" cy="2547720"/>
              <a:chOff x="2905200" y="2354400"/>
              <a:chExt cx="5192640" cy="2547720"/>
            </a:xfrm>
          </p:grpSpPr>
          <p:sp>
            <p:nvSpPr>
              <p:cNvPr id="278" name=""/>
              <p:cNvSpPr/>
              <p:nvPr/>
            </p:nvSpPr>
            <p:spPr>
              <a:xfrm>
                <a:off x="2905200" y="235440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05200" y="4900680"/>
                <a:ext cx="5192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ice’s bank account certifica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66720" y="2948040"/>
            <a:ext cx="8513640" cy="1828800"/>
            <a:chOff x="666720" y="2948040"/>
            <a:chExt cx="8513640" cy="1828800"/>
          </a:xfrm>
        </p:grpSpPr>
        <p:sp>
          <p:nvSpPr>
            <p:cNvPr id="282" name=""/>
            <p:cNvSpPr/>
            <p:nvPr/>
          </p:nvSpPr>
          <p:spPr>
            <a:xfrm>
              <a:off x="687600" y="308124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56160" y="3081240"/>
              <a:ext cx="157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icate 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5560" y="30812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30240" y="3081240"/>
              <a:ext cx="170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ou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98920" y="2948040"/>
              <a:ext cx="237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7600" y="340056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58320" y="340056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520" y="3400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34560" y="3400560"/>
              <a:ext cx="5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98920" y="334008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7600" y="3719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6880" y="371952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7960" y="3719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1680" y="3719520"/>
              <a:ext cx="896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2626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98920" y="3659040"/>
              <a:ext cx="2376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600" y="40384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4000" y="4038480"/>
              <a:ext cx="20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ertifying auth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22120" y="4038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32400" y="4038480"/>
              <a:ext cx="1212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b’s 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98920" y="3978360"/>
              <a:ext cx="237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7600" y="435780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55440" y="4357800"/>
              <a:ext cx="992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ign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4357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649320" y="4357800"/>
              <a:ext cx="3092760" cy="375480"/>
              <a:chOff x="3649320" y="4357800"/>
              <a:chExt cx="3092760" cy="375480"/>
            </a:xfrm>
          </p:grpSpPr>
          <p:sp>
            <p:nvSpPr>
              <p:cNvPr id="306" name=""/>
              <p:cNvSpPr/>
              <p:nvPr/>
            </p:nvSpPr>
            <p:spPr>
              <a:xfrm>
                <a:off x="3649320" y="4357800"/>
                <a:ext cx="2666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ges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eld 2 + field 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45000" y="4456080"/>
                <a:ext cx="39708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GB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pr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66720" y="477684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6720" y="3005280"/>
              <a:ext cx="851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blic-key certificate for Bob’s Ban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5800" y="2541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02240" y="2541600"/>
            <a:ext cx="157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icat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40160" y="25416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2541600"/>
            <a:ext cx="108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1400" y="238140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21240" y="24066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21240" y="2381400"/>
            <a:ext cx="14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46440" y="238140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21240" y="240660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800" y="2935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23840" y="293544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5240" y="2935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77400" y="2935440"/>
            <a:ext cx="121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’s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21240" y="2800440"/>
            <a:ext cx="252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5800" y="3327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33920" y="3327480"/>
            <a:ext cx="10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7360" y="3327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75240" y="3327480"/>
            <a:ext cx="483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B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21240" y="3192480"/>
            <a:ext cx="252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5800" y="37209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07640" y="372096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rtifying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6720" y="37209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9440" y="3720960"/>
            <a:ext cx="31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d – The Bankers Fe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21240" y="3586320"/>
            <a:ext cx="252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5800" y="4114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09800" y="4114800"/>
            <a:ext cx="9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74960" y="4114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1400" y="4462560"/>
            <a:ext cx="292572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21240" y="439740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46440" y="4462560"/>
            <a:ext cx="555624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638160" y="4081320"/>
            <a:ext cx="3092760" cy="375480"/>
            <a:chOff x="3638160" y="4081320"/>
            <a:chExt cx="3092760" cy="375480"/>
          </a:xfrm>
        </p:grpSpPr>
        <p:sp>
          <p:nvSpPr>
            <p:cNvPr id="342" name=""/>
            <p:cNvSpPr/>
            <p:nvPr/>
          </p:nvSpPr>
          <p:spPr>
            <a:xfrm>
              <a:off x="3638160" y="4081320"/>
              <a:ext cx="266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ig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eld 2 + field 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33840" y="4179600"/>
              <a:ext cx="397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GB" sz="1600" spc="-1" strike="noStrike" baseline="-25000">
                  <a:solidFill>
                    <a:srgbClr val="000000"/>
                  </a:solidFill>
                  <a:latin typeface="Times New Roman"/>
                </a:rPr>
                <a:t>Fpr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ipher block chain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862560" y="2398680"/>
            <a:ext cx="8132040" cy="1962360"/>
            <a:chOff x="862560" y="2398680"/>
            <a:chExt cx="8132040" cy="1962360"/>
          </a:xfrm>
        </p:grpSpPr>
        <p:sp>
          <p:nvSpPr>
            <p:cNvPr id="346" name=""/>
            <p:cNvSpPr/>
            <p:nvPr/>
          </p:nvSpPr>
          <p:spPr>
            <a:xfrm>
              <a:off x="65120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20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84480" y="3648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71960" y="2735280"/>
              <a:ext cx="58248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7196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8140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45120" y="2735280"/>
              <a:ext cx="5810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45120" y="2735280"/>
              <a:ext cx="61272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548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86240" y="2735280"/>
              <a:ext cx="582840" cy="24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6240" y="2735280"/>
              <a:ext cx="613080" cy="27612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69040" y="2741760"/>
              <a:ext cx="43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81800" y="2552760"/>
              <a:ext cx="642960" cy="6429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33640" y="272412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96000" y="3195720"/>
              <a:ext cx="184320" cy="15408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58" y="97"/>
                  </a:moveTo>
                  <a:lnTo>
                    <a:pt x="0" y="97"/>
                  </a:lnTo>
                  <a:lnTo>
                    <a:pt x="58" y="0"/>
                  </a:lnTo>
                  <a:lnTo>
                    <a:pt x="116" y="97"/>
                  </a:lnTo>
                  <a:lnTo>
                    <a:pt x="58" y="9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88160" y="3379680"/>
              <a:ext cx="1440" cy="2145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7720" y="2797200"/>
              <a:ext cx="15408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58"/>
                  </a:moveTo>
                  <a:lnTo>
                    <a:pt x="0" y="0"/>
                  </a:lnTo>
                  <a:lnTo>
                    <a:pt x="97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9080" y="2889360"/>
              <a:ext cx="4284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43840" y="2766960"/>
              <a:ext cx="950760" cy="94932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82000" y="3092400"/>
              <a:ext cx="86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1320" y="29512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9" y="57"/>
                  </a:moveTo>
                  <a:lnTo>
                    <a:pt x="38" y="0"/>
                  </a:lnTo>
                  <a:lnTo>
                    <a:pt x="115" y="77"/>
                  </a:lnTo>
                  <a:lnTo>
                    <a:pt x="0" y="115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24760" y="2889360"/>
              <a:ext cx="766800" cy="152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3624120"/>
              <a:ext cx="18432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96" y="58"/>
                  </a:moveTo>
                  <a:lnTo>
                    <a:pt x="116" y="116"/>
                  </a:lnTo>
                  <a:lnTo>
                    <a:pt x="0" y="97"/>
                  </a:lnTo>
                  <a:lnTo>
                    <a:pt x="77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278480" y="3440160"/>
              <a:ext cx="796680" cy="2761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70560" y="3624120"/>
              <a:ext cx="5508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705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4544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7640" y="3624120"/>
              <a:ext cx="55224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2764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11880" y="36482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86160" y="3624120"/>
              <a:ext cx="552600" cy="276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86160" y="3624120"/>
              <a:ext cx="582480" cy="3063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3360" y="36291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65680" y="2398680"/>
              <a:ext cx="15228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0" y="58"/>
                  </a:moveTo>
                  <a:lnTo>
                    <a:pt x="0" y="0"/>
                  </a:lnTo>
                  <a:lnTo>
                    <a:pt x="96" y="58"/>
                  </a:lnTo>
                  <a:lnTo>
                    <a:pt x="0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05240" y="2490840"/>
              <a:ext cx="4604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36920" y="4176720"/>
              <a:ext cx="152640" cy="1843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6" y="58"/>
                  </a:moveTo>
                  <a:lnTo>
                    <a:pt x="96" y="116"/>
                  </a:lnTo>
                  <a:lnTo>
                    <a:pt x="0" y="58"/>
                  </a:lnTo>
                  <a:lnTo>
                    <a:pt x="96" y="0"/>
                  </a:lnTo>
                  <a:lnTo>
                    <a:pt x="96" y="58"/>
                  </a:lnTo>
                  <a:close/>
                </a:path>
              </a:pathLst>
            </a:custGeom>
            <a:solidFill>
              <a:srgbClr val="000000"/>
            </a:solidFill>
            <a:ln w="30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519440" y="4268880"/>
              <a:ext cx="4305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64000" y="2811600"/>
              <a:ext cx="1742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in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62560" y="3670200"/>
              <a:ext cx="18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iphertext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eam ciph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41240" y="2608200"/>
            <a:ext cx="8593200" cy="1684440"/>
            <a:chOff x="741240" y="2608200"/>
            <a:chExt cx="8593200" cy="1684440"/>
          </a:xfrm>
        </p:grpSpPr>
        <p:sp>
          <p:nvSpPr>
            <p:cNvPr id="387" name=""/>
            <p:cNvSpPr/>
            <p:nvPr/>
          </p:nvSpPr>
          <p:spPr>
            <a:xfrm>
              <a:off x="7854840" y="3297240"/>
              <a:ext cx="1454400" cy="230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54840" y="3297240"/>
              <a:ext cx="1479600" cy="255600"/>
            </a:xfrm>
            <a:prstGeom prst="rect">
              <a:avLst/>
            </a:prstGeom>
            <a:noFill/>
            <a:ln w="381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12000" y="3119400"/>
              <a:ext cx="509400" cy="53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75360" y="32716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10480" y="36291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32" y="32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48" y="80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300720" y="3679560"/>
              <a:ext cx="534960" cy="33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70400" y="41655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32"/>
                  </a:moveTo>
                  <a:lnTo>
                    <a:pt x="0" y="0"/>
                  </a:lnTo>
                  <a:lnTo>
                    <a:pt x="80" y="32"/>
                  </a:lnTo>
                  <a:lnTo>
                    <a:pt x="0" y="8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2920" y="42163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5520" y="2608200"/>
              <a:ext cx="79056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6800" y="2876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(K,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1240" y="2608200"/>
              <a:ext cx="1198800" cy="790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99360" y="28004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umb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97840" y="299088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2084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084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9356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82880" y="2914560"/>
              <a:ext cx="48564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2880" y="2914560"/>
              <a:ext cx="51120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5560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46360" y="2914560"/>
              <a:ext cx="484200" cy="204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46360" y="2914560"/>
              <a:ext cx="509760" cy="2304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15840" y="2914560"/>
              <a:ext cx="34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66760" y="2940120"/>
              <a:ext cx="12888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8"/>
                  </a:moveTo>
                  <a:lnTo>
                    <a:pt x="0" y="0"/>
                  </a:lnTo>
                  <a:lnTo>
                    <a:pt x="81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40040" y="3016080"/>
              <a:ext cx="126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13240" y="2965320"/>
              <a:ext cx="127080" cy="12888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30560" y="3041640"/>
              <a:ext cx="357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95640" y="3884760"/>
              <a:ext cx="4079880" cy="203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95640" y="3884760"/>
              <a:ext cx="4105080" cy="22860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15200" y="3794040"/>
              <a:ext cx="81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lain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60280" y="402444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07200" y="369252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iphertex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14920" y="3922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94640" y="3067200"/>
              <a:ext cx="128520" cy="1537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49"/>
                  </a:moveTo>
                  <a:lnTo>
                    <a:pt x="0" y="0"/>
                  </a:lnTo>
                  <a:lnTo>
                    <a:pt x="81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11960" y="3144960"/>
              <a:ext cx="38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77000" y="3322800"/>
              <a:ext cx="127080" cy="15372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46960" y="3398760"/>
              <a:ext cx="230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1680" y="2914560"/>
              <a:ext cx="127080" cy="152640"/>
            </a:xfrm>
            <a:custGeom>
              <a:avLst/>
              <a:gdLst/>
              <a:ahLst/>
              <a:rect l="l" t="t" r="r" b="b"/>
              <a:pathLst>
                <a:path w="80" h="96">
                  <a:moveTo>
                    <a:pt x="0" y="48"/>
                  </a:moveTo>
                  <a:lnTo>
                    <a:pt x="0" y="0"/>
                  </a:lnTo>
                  <a:lnTo>
                    <a:pt x="80" y="48"/>
                  </a:lnTo>
                  <a:lnTo>
                    <a:pt x="0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56080" y="2990880"/>
              <a:ext cx="255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4320" y="2762280"/>
              <a:ext cx="612720" cy="458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12560" y="288936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59720" y="3144960"/>
              <a:ext cx="152280" cy="12672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16" y="32"/>
                  </a:moveTo>
                  <a:lnTo>
                    <a:pt x="32" y="0"/>
                  </a:lnTo>
                  <a:lnTo>
                    <a:pt x="96" y="80"/>
                  </a:lnTo>
                  <a:lnTo>
                    <a:pt x="0" y="80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02240" y="3041640"/>
              <a:ext cx="38268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48440" y="2608200"/>
              <a:ext cx="99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str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9800" y="2658960"/>
              <a:ext cx="127080" cy="15408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49"/>
                  </a:moveTo>
                  <a:lnTo>
                    <a:pt x="0" y="0"/>
                  </a:lnTo>
                  <a:lnTo>
                    <a:pt x="80" y="49"/>
                  </a:lnTo>
                  <a:lnTo>
                    <a:pt x="0" y="9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97120" y="2736720"/>
              <a:ext cx="35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7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A encryption fun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1200" y="1668600"/>
            <a:ext cx="886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oid encrypt(unsigned long k[], unsigned long text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y = text[0], z = text[1]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nsigned long delta = 0x9e3779b9, sum = 0; int 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or (n= 0; n &lt; 32; n++) {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m += delta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 += ((z &lt;&lt; 4) + k[0]) ^ (z+sum) ^ ((z &gt;&gt; 5) + k[1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 += ((y &lt;&lt; 4) + k[2]) ^ (y+sum) ^ ((y &gt;&gt; 5) + k[3])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xt[0] = y;  text[1] = z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828684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0-11-23T10:53:09Z</dcterms:modified>
  <cp:revision>65</cp:revision>
  <dc:subject/>
  <dc:title>Figure 15.1 A distributed multimedia system</dc:title>
</cp:coreProperties>
</file>